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AAB-816A-4BA8-8747-444305A0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7CF-0B0C-4400-9F88-4DBEB6DB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082-AE21-44EB-ACF6-CE50CCDB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B42-1F9C-4064-A2DC-7AE86E61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171E-0583-437A-997F-8D054D01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B5B2-13C6-4180-AF04-CC488B3D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1048-E090-4233-B8D4-10B3E829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A75B-3219-4377-BAC7-6BF19EF3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6403-783D-4128-8F41-1E9A9C7A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7BC8-2590-47E4-B14C-E2299AD6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0FAD-96D8-440C-ACC9-72E994D5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15F-1EAB-47C4-A614-A0CEFC8F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B01C-A5A0-4022-BA46-4F56D9B5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7623-DC65-445C-9F23-4AD7322F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3F77-8765-4416-AC13-BC28833D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5455-F81B-42A7-AC04-12936C68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CB22-EDFE-4EB3-8BAA-CB5038C0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213-82C5-40AC-8654-8A2A4032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676-DA6F-47CC-B293-F2FCAC63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883-96D7-4279-B68B-FC62D4A7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0E7-8C22-4F99-A3B7-E60A74B3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544-7D4D-4E1C-AD63-0F5A195A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44D-D5C7-4D88-85F5-34E3796B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0D6-5617-4448-B4DB-84DF946C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B821-FB76-4B18-8034-2484DCC8F8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7D60-CFAA-41BE-9A9B-F2F3665E5D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-609480" y="-41400"/>
            <a:ext cx="10362960" cy="6899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bandera2"/>
          <p:cNvPicPr/>
          <p:nvPr/>
        </p:nvPicPr>
        <p:blipFill>
          <a:blip r:embed="rId2"/>
          <a:stretch/>
        </p:blipFill>
        <p:spPr>
          <a:xfrm>
            <a:off x="2666880" y="4114800"/>
            <a:ext cx="3810240" cy="2602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3048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República Dominicana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1930 - 196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160" y="30481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The Era of Trujill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República Dominican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fore Truji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492) Colony of Sp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795) Colony of Fr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1) Haitian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9) First Re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14) Colony of Spa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1) Rebe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2) Haitian Contr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44) Rebellion &amp; Independ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61) Spanish Provi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70) Treaty with U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16) Dictatorship Ulises Heureau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24) Dictatorship Horacio Vásqu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494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afael Leonidas Trujillo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is You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486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rn in 1891 in San Cristobal, Dominican Repub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umble 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mentary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16, worked as telegraph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the end 1916, employed in a sugar refin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1918, Joins the  National Gu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aises ranks very quickly, until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trujillojoven"/>
          <p:cNvPicPr/>
          <p:nvPr/>
        </p:nvPicPr>
        <p:blipFill>
          <a:blip r:embed="rId1"/>
          <a:stretch/>
        </p:blipFill>
        <p:spPr>
          <a:xfrm>
            <a:off x="45720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rujillo Takes Military Contro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n 1928, Trujillo becomes the head of “La Policía Nacional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Along with Rafael Estrella Ureña, leads the revolution of Santiago against Horacio Vásquez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Later, with the help from the US, he takes control and becomes”Presidente de la República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trujillo3"/>
          <p:cNvPicPr/>
          <p:nvPr/>
        </p:nvPicPr>
        <p:blipFill>
          <a:blip r:embed="rId1"/>
          <a:stretch/>
        </p:blipFill>
        <p:spPr>
          <a:xfrm>
            <a:off x="5943600" y="2057400"/>
            <a:ext cx="2581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Regime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76720" y="1828800"/>
            <a:ext cx="537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akes control of the country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 (economy, politics, etc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Gets rid of his enemies by sending them to prison &amp; torturing th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Examples of tor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- electric shocks, water drips, etc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sillaelectrica"/>
          <p:cNvPicPr/>
          <p:nvPr/>
        </p:nvPicPr>
        <p:blipFill>
          <a:blip r:embed="rId1"/>
          <a:stretch/>
        </p:blipFill>
        <p:spPr>
          <a:xfrm>
            <a:off x="53352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s Hermanas Mirab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41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n el tiempo de las mariposas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rujillo falls in love with Minerva, imprisons her husband Manolo Tavarez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he becomes involved in the revolutionary movement , </a:t>
            </a:r>
            <a:r>
              <a:rPr b="1" i="1" lang="en-US" sz="2500" spc="-1" strike="noStrike">
                <a:solidFill>
                  <a:srgbClr val="ffffff"/>
                </a:solidFill>
                <a:latin typeface="Tahoma"/>
              </a:rPr>
              <a:t>14 de juni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Murdered at the end of 1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mirabal2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 revolució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revolution began with the slow fall of the dictatorshi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US government contacted a group of rebels to help assassinate Trujillo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assassination occurred on May 30, 196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834080" y="2585880"/>
            <a:ext cx="37051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Legacy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lthough it was a violent regime, Trujillo’s Era was a moment of incredible prosperity for the Dominican econom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fter his assassination, Democracy was reach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Joaquín Balagu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escudo"/>
          <p:cNvPicPr/>
          <p:nvPr/>
        </p:nvPicPr>
        <p:blipFill>
          <a:blip r:embed="rId1"/>
          <a:stretch/>
        </p:blipFill>
        <p:spPr>
          <a:xfrm>
            <a:off x="6400800" y="2362320"/>
            <a:ext cx="224964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Luis Perez -  Compadre Pedro Juan.mp3" descr=""/>
          <p:cNvPicPr/>
          <p:nvPr/>
        </p:nvPicPr>
        <p:blipFill>
          <a:blip r:embed="rId2"/>
          <a:stretch/>
        </p:blipFill>
        <p:spPr>
          <a:xfrm>
            <a:off x="66294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218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9:34:35Z</dcterms:created>
  <dc:creator>Mechanical Engineering</dc:creator>
  <dc:description/>
  <dc:language>en-US</dc:language>
  <cp:lastModifiedBy>Helen Zumaeta</cp:lastModifiedBy>
  <dcterms:modified xsi:type="dcterms:W3CDTF">2013-02-11T21:09:58Z</dcterms:modified>
  <cp:revision>34</cp:revision>
  <dc:subject/>
  <dc:title>Republica Dominicana 1930 - 1961</dc:title>
</cp:coreProperties>
</file>